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0FD-C56B-49C2-B318-CC7FDDFC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8D1-AFC6-4F51-AE2A-9DA751BC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E67-F566-446B-B5E4-3C8BA39F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DC0-AF2B-412A-8614-2B2BB5F1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98D-94A7-466B-A6F0-8DBC45AE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8C1-762B-4963-84C8-810D6C17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0D6-D999-425F-8BCA-38710AEE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A55-1D4A-46AD-BF94-9C72DBD5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A8D-A145-43CF-9BEC-D5C397B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466-7F77-4AFA-83A8-6D84E54D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A0F-6DD9-4AE7-8D09-86CCE616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193-555F-4AFA-980E-220E2FE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637F-E572-47AE-99C6-3B3D48F71DE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Rainfall Typ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3 Main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three common types of rainfall, all of which occur in the United Kingd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have the common theme of air being forced to r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air rises it cools it cannot hold as much moisture as it could when it was warm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tually the rising air reaches a point where it is 100% saturated, in other words it cannot hold any more wat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w poi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it is above this point tha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dens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cc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dens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the process by which the water vapour (a gas) held in the air is turned back into water droplets (a liquid), which fall as ra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vection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surface of the earth is heated by the su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warm surface heats the air above it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t air always rises so this newly heated air does so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s it rises the air-cools and begins to condensat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urther rising and cooling causes a large amount of condensation to occur and rain is form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nvection tends to produce towering cumulo-nimbus clouds, which produce heavy rain and possible thunder and lightning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vec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grc.k12.nf.ca/climatecanada/images/conv_rain.gif"/>
          <p:cNvPicPr/>
          <p:nvPr/>
        </p:nvPicPr>
        <p:blipFill>
          <a:blip r:embed="rId1"/>
          <a:stretch/>
        </p:blipFill>
        <p:spPr>
          <a:xfrm>
            <a:off x="1116000" y="155736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ro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United Kingdom experiences a lot of frontal rainfall, as it is associated with the movement of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pression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over the country, which are described in more detail elsewhere in this topi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rontal rainfall occurs when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wo air masses meet, one a warm air mass and one a cold air mas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lighter, less dense, warm air is forced to rise over the denser, cold ai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s causes the warm air to cool and begin to condens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s the warm air is forced to rise further condensation occurs and rain is forme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rontal rain produces a variety of clouds, which bring moderate to heavy rainfall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ro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cgz.e2bn.net/e2bn/leas/c99/schools/cgz/accounts/staff/rchambers/GeoBytes/Key%20Stage%203/Year%209/Natural%20Environments/Pictures.NatEnvironments/Frontal%20Rainfall.jpg"/>
          <p:cNvPicPr/>
          <p:nvPr/>
        </p:nvPicPr>
        <p:blipFill>
          <a:blip r:embed="rId1"/>
          <a:stretch/>
        </p:blipFill>
        <p:spPr>
          <a:xfrm>
            <a:off x="1197000" y="1265400"/>
            <a:ext cx="698508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lief (Orthographi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prevailing winds pick up moisture from the sea as they travel across it, making the air moi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oist air reaches the coast and is forced to rise over mountains and hi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forces the air to cool and condense, forming clou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ir continues to be forced over the mountains and so it drops its moisture as relief ra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ce over the top of the mountain the air will usually drop down the other side, warming as it does s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means it has a greater ability to carry water moisture and so there is little rain on the far side of the mounta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area is called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ain shadow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lief (Orthographi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coolgeography.co.uk/GCSE/Year11/Weather,Climate/Rainfall%20types/ReliefRain.gif"/>
          <p:cNvPicPr/>
          <p:nvPr/>
        </p:nvPicPr>
        <p:blipFill>
          <a:blip r:embed="rId1"/>
          <a:stretch/>
        </p:blipFill>
        <p:spPr>
          <a:xfrm>
            <a:off x="468360" y="1628640"/>
            <a:ext cx="8254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42:34Z</dcterms:created>
  <dc:creator>Dell_02</dc:creator>
  <dc:description/>
  <dc:language>en-US</dc:language>
  <cp:lastModifiedBy>Dell_02</cp:lastModifiedBy>
  <dcterms:modified xsi:type="dcterms:W3CDTF">2011-01-27T22:30:26Z</dcterms:modified>
  <cp:revision>4</cp:revision>
  <dc:subject/>
  <dc:title>Rainfall Types</dc:title>
</cp:coreProperties>
</file>